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ple Undo/Redo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114560" y="1989000"/>
            <a:ext cx="67104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963880" y="3276720"/>
            <a:ext cx="1608120" cy="78264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ctio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971800" y="3638520"/>
            <a:ext cx="160020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63880" y="2514600"/>
            <a:ext cx="1608120" cy="41580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v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2666880"/>
            <a:ext cx="228960" cy="152640"/>
          </a:xfrm>
          <a:custGeom>
            <a:avLst/>
            <a:gdLst/>
            <a:ahLst/>
            <a:rect l="0" t="0" r="r" b="b"/>
            <a:pathLst>
              <a:path fill="none"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410080" y="2514600"/>
            <a:ext cx="2438280" cy="78264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cu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23040" y="2876400"/>
            <a:ext cx="242388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3505320"/>
            <a:ext cx="457560" cy="381240"/>
          </a:xfrm>
          <a:custGeom>
            <a:avLst/>
            <a:gdLst/>
            <a:ahLst/>
            <a:rect l="0" t="0" r="r" b="b"/>
            <a:pathLst>
              <a:path fill="none" w="1271" h="1059">
                <a:moveTo>
                  <a:pt x="0" y="1059"/>
                </a:moveTo>
                <a:lnTo>
                  <a:pt x="1271" y="1059"/>
                </a:lnTo>
                <a:lnTo>
                  <a:pt x="635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6294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402160" y="3886200"/>
            <a:ext cx="2446200" cy="120384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fic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cu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5120" y="4267080"/>
            <a:ext cx="243360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5120" y="4648320"/>
            <a:ext cx="243360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23040" y="2952720"/>
            <a:ext cx="242388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714840"/>
            <a:ext cx="160020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9495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58760" y="3429000"/>
            <a:ext cx="1227240" cy="41580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886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73400" y="4689360"/>
            <a:ext cx="2362320" cy="385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ciever.actio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3240" y="4699080"/>
            <a:ext cx="222480" cy="228960"/>
          </a:xfrm>
          <a:custGeom>
            <a:avLst/>
            <a:gdLst/>
            <a:ahLst/>
            <a:rect l="0" t="0" r="r" b="b"/>
            <a:pathLst>
              <a:path w="618" h="636">
                <a:moveTo>
                  <a:pt x="0" y="636"/>
                </a:moveTo>
                <a:lnTo>
                  <a:pt x="618" y="636"/>
                </a:lnTo>
                <a:lnTo>
                  <a:pt x="0" y="0"/>
                </a:lnTo>
                <a:lnTo>
                  <a:pt x="0" y="636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72280" y="482616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F Command Patter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830240" y="4191120"/>
            <a:ext cx="2666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Specific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648320" y="486396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00640" y="4686120"/>
            <a:ext cx="235440" cy="228960"/>
          </a:xfrm>
          <a:custGeom>
            <a:avLst/>
            <a:gdLst/>
            <a:ahLst/>
            <a:rect l="0" t="0" r="r" b="b"/>
            <a:pathLst>
              <a:path w="654" h="636">
                <a:moveTo>
                  <a:pt x="654" y="0"/>
                </a:moveTo>
                <a:lnTo>
                  <a:pt x="0" y="0"/>
                </a:lnTo>
                <a:lnTo>
                  <a:pt x="654" y="636"/>
                </a:lnTo>
                <a:lnTo>
                  <a:pt x="65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F Memento Patter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15960" y="2362320"/>
            <a:ext cx="1989000" cy="147960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Orig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tMemento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Mement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8920" y="2743200"/>
            <a:ext cx="197784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8920" y="3124080"/>
            <a:ext cx="197784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2895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41280" y="3733920"/>
            <a:ext cx="248040" cy="457560"/>
          </a:xfrm>
          <a:custGeom>
            <a:avLst/>
            <a:gdLst/>
            <a:ahLst/>
            <a:rect l="0" t="0" r="r" b="b"/>
            <a:pathLst>
              <a:path fill="none" w="689" h="1271">
                <a:moveTo>
                  <a:pt x="689" y="1271"/>
                </a:moveTo>
                <a:lnTo>
                  <a:pt x="689" y="1271"/>
                </a:lnTo>
                <a:lnTo>
                  <a:pt x="689" y="1271"/>
                </a:lnTo>
                <a:cubicBezTo>
                  <a:pt x="689" y="1048"/>
                  <a:pt x="657" y="829"/>
                  <a:pt x="597" y="635"/>
                </a:cubicBezTo>
                <a:cubicBezTo>
                  <a:pt x="536" y="442"/>
                  <a:pt x="449" y="282"/>
                  <a:pt x="344" y="170"/>
                </a:cubicBezTo>
                <a:cubicBezTo>
                  <a:pt x="240" y="59"/>
                  <a:pt x="1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38400" y="3314880"/>
            <a:ext cx="295560" cy="390960"/>
          </a:xfrm>
          <a:custGeom>
            <a:avLst/>
            <a:gdLst/>
            <a:ahLst/>
            <a:rect l="0" t="0" r="r" b="b"/>
            <a:pathLst>
              <a:path fill="none" w="821" h="1086">
                <a:moveTo>
                  <a:pt x="0" y="1086"/>
                </a:moveTo>
                <a:lnTo>
                  <a:pt x="0" y="1086"/>
                </a:lnTo>
                <a:cubicBezTo>
                  <a:pt x="144" y="1086"/>
                  <a:pt x="286" y="1036"/>
                  <a:pt x="411" y="941"/>
                </a:cubicBezTo>
                <a:cubicBezTo>
                  <a:pt x="535" y="845"/>
                  <a:pt x="639" y="708"/>
                  <a:pt x="711" y="543"/>
                </a:cubicBezTo>
                <a:cubicBezTo>
                  <a:pt x="783" y="378"/>
                  <a:pt x="821" y="191"/>
                  <a:pt x="821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25760" y="4029120"/>
            <a:ext cx="2514600" cy="934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 = create Meme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.SetState (st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tur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2920" y="4025880"/>
            <a:ext cx="222480" cy="228960"/>
          </a:xfrm>
          <a:custGeom>
            <a:avLst/>
            <a:gdLst/>
            <a:ahLst/>
            <a:rect l="0" t="0" r="r" b="b"/>
            <a:pathLst>
              <a:path w="618" h="636">
                <a:moveTo>
                  <a:pt x="0" y="636"/>
                </a:moveTo>
                <a:lnTo>
                  <a:pt x="618" y="636"/>
                </a:lnTo>
                <a:lnTo>
                  <a:pt x="0" y="0"/>
                </a:lnTo>
                <a:lnTo>
                  <a:pt x="0" y="636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84280" y="32734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06600" y="4029120"/>
            <a:ext cx="2514600" cy="385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te = m.GetSt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3760" y="4025880"/>
            <a:ext cx="222480" cy="228960"/>
          </a:xfrm>
          <a:custGeom>
            <a:avLst/>
            <a:gdLst/>
            <a:ahLst/>
            <a:rect l="0" t="0" r="r" b="b"/>
            <a:pathLst>
              <a:path w="618" h="636">
                <a:moveTo>
                  <a:pt x="0" y="636"/>
                </a:moveTo>
                <a:lnTo>
                  <a:pt x="618" y="636"/>
                </a:lnTo>
                <a:lnTo>
                  <a:pt x="0" y="0"/>
                </a:lnTo>
                <a:lnTo>
                  <a:pt x="0" y="636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4000" y="354024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3581280"/>
            <a:ext cx="991080" cy="457560"/>
          </a:xfrm>
          <a:custGeom>
            <a:avLst/>
            <a:gdLst/>
            <a:ahLst/>
            <a:rect l="0" t="0" r="r" b="b"/>
            <a:pathLst>
              <a:path fill="none" w="2753" h="1271">
                <a:moveTo>
                  <a:pt x="2753" y="1271"/>
                </a:moveTo>
                <a:lnTo>
                  <a:pt x="2753" y="1271"/>
                </a:lnTo>
                <a:lnTo>
                  <a:pt x="2753" y="1271"/>
                </a:lnTo>
                <a:cubicBezTo>
                  <a:pt x="2753" y="1048"/>
                  <a:pt x="2626" y="829"/>
                  <a:pt x="2384" y="635"/>
                </a:cubicBezTo>
                <a:cubicBezTo>
                  <a:pt x="2143" y="442"/>
                  <a:pt x="1795" y="282"/>
                  <a:pt x="1376" y="170"/>
                </a:cubicBezTo>
                <a:cubicBezTo>
                  <a:pt x="958" y="59"/>
                  <a:pt x="483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87760" y="2438280"/>
            <a:ext cx="1379520" cy="147960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M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tStat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GetSt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2819520"/>
            <a:ext cx="137160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3200400"/>
            <a:ext cx="1371600" cy="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697800" y="2514600"/>
            <a:ext cx="1379520" cy="41580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ret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2666880"/>
            <a:ext cx="228960" cy="152640"/>
          </a:xfrm>
          <a:custGeom>
            <a:avLst/>
            <a:gdLst/>
            <a:ahLst/>
            <a:rect l="0" t="0" r="r" b="b"/>
            <a:pathLst>
              <a:path fill="none"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2743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0800" y="4025880"/>
            <a:ext cx="235440" cy="228960"/>
          </a:xfrm>
          <a:custGeom>
            <a:avLst/>
            <a:gdLst/>
            <a:ahLst/>
            <a:rect l="0" t="0" r="r" b="b"/>
            <a:pathLst>
              <a:path w="654" h="636">
                <a:moveTo>
                  <a:pt x="654" y="0"/>
                </a:moveTo>
                <a:lnTo>
                  <a:pt x="0" y="0"/>
                </a:lnTo>
                <a:lnTo>
                  <a:pt x="654" y="636"/>
                </a:lnTo>
                <a:lnTo>
                  <a:pt x="65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0320" y="4025880"/>
            <a:ext cx="235440" cy="228960"/>
          </a:xfrm>
          <a:custGeom>
            <a:avLst/>
            <a:gdLst/>
            <a:ahLst/>
            <a:rect l="0" t="0" r="r" b="b"/>
            <a:pathLst>
              <a:path w="654" h="636">
                <a:moveTo>
                  <a:pt x="654" y="0"/>
                </a:moveTo>
                <a:lnTo>
                  <a:pt x="0" y="0"/>
                </a:lnTo>
                <a:lnTo>
                  <a:pt x="654" y="636"/>
                </a:lnTo>
                <a:lnTo>
                  <a:pt x="65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sic Undo/Redo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46360" y="1663560"/>
            <a:ext cx="6820200" cy="4900320"/>
            <a:chOff x="1746360" y="1663560"/>
            <a:chExt cx="6820200" cy="4900320"/>
          </a:xfrm>
        </p:grpSpPr>
        <p:sp>
          <p:nvSpPr>
            <p:cNvPr id="90" name=""/>
            <p:cNvSpPr txBox="1"/>
            <p:nvPr/>
          </p:nvSpPr>
          <p:spPr>
            <a:xfrm>
              <a:off x="1752480" y="1685880"/>
              <a:ext cx="2305080" cy="3556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ndoStack.Do (cm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8960" y="168264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636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746360" y="2314440"/>
              <a:ext cx="1752480" cy="132732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o (cmd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ndo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Redo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6716880" y="2438280"/>
              <a:ext cx="1836720" cy="203112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2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mm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basic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etState (state)</a:t>
              </a:r>
              <a:br>
                <a:rPr sz="18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o ()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ndo 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Redo 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24800" y="2901960"/>
              <a:ext cx="1833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6068880" y="4808520"/>
              <a:ext cx="2484360" cy="175536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pecificComm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pecific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etState (state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o 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ndo 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067440" y="5199120"/>
              <a:ext cx="2496960" cy="144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5320" y="4248000"/>
              <a:ext cx="3133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8400" y="4581360"/>
              <a:ext cx="305280" cy="228960"/>
            </a:xfrm>
            <a:custGeom>
              <a:avLst/>
              <a:gdLst/>
              <a:ahLst/>
              <a:rect l="0" t="0" r="r" b="b"/>
              <a:pathLst>
                <a:path fill="none" w="848" h="636">
                  <a:moveTo>
                    <a:pt x="0" y="636"/>
                  </a:moveTo>
                  <a:lnTo>
                    <a:pt x="848" y="636"/>
                  </a:lnTo>
                  <a:lnTo>
                    <a:pt x="424" y="0"/>
                  </a:lnTo>
                  <a:lnTo>
                    <a:pt x="0" y="63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601040" y="43243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316400" y="1666800"/>
              <a:ext cx="1608120" cy="230688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ndo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mmands[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Do (cmd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ndo 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Redo 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anUndo 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anRedo 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4320" y="2057400"/>
              <a:ext cx="160020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5040" y="3057480"/>
              <a:ext cx="228960" cy="152640"/>
            </a:xfrm>
            <a:custGeom>
              <a:avLst/>
              <a:gdLst/>
              <a:ahLst/>
              <a:rect l="0" t="0" r="r" b="b"/>
              <a:pathLst>
                <a:path fill="none" w="636" h="424">
                  <a:moveTo>
                    <a:pt x="317" y="424"/>
                  </a:moveTo>
                  <a:lnTo>
                    <a:pt x="636" y="211"/>
                  </a:lnTo>
                  <a:lnTo>
                    <a:pt x="317" y="0"/>
                  </a:lnTo>
                  <a:lnTo>
                    <a:pt x="0" y="211"/>
                  </a:lnTo>
                  <a:lnTo>
                    <a:pt x="317" y="4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72200" y="313380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749600" y="4210200"/>
              <a:ext cx="1752480" cy="120384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mmand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73360" y="4984920"/>
              <a:ext cx="174132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0" y="2619360"/>
              <a:ext cx="249480" cy="152640"/>
            </a:xfrm>
            <a:custGeom>
              <a:avLst/>
              <a:gdLst/>
              <a:ahLst/>
              <a:rect l="0" t="0" r="r" b="b"/>
              <a:pathLst>
                <a:path fill="none" w="693" h="424">
                  <a:moveTo>
                    <a:pt x="347" y="424"/>
                  </a:moveTo>
                  <a:lnTo>
                    <a:pt x="693" y="211"/>
                  </a:lnTo>
                  <a:lnTo>
                    <a:pt x="347" y="0"/>
                  </a:lnTo>
                  <a:lnTo>
                    <a:pt x="0" y="211"/>
                  </a:lnTo>
                  <a:lnTo>
                    <a:pt x="347" y="4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72080" y="2695680"/>
              <a:ext cx="54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0" y="501984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3360" y="4603680"/>
              <a:ext cx="174132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24320" y="2438280"/>
              <a:ext cx="160020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4800" y="3200400"/>
              <a:ext cx="182880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771560" y="5581800"/>
              <a:ext cx="3505320" cy="84456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md = create SpecificComm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md.SetState (state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lient.Do ( cmd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35680" y="557856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636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067440" y="5580000"/>
              <a:ext cx="2496960" cy="180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7480" y="5181480"/>
              <a:ext cx="790920" cy="400320"/>
            </a:xfrm>
            <a:custGeom>
              <a:avLst/>
              <a:gdLst/>
              <a:ahLst/>
              <a:rect l="0" t="0" r="r" b="b"/>
              <a:pathLst>
                <a:path fill="none" w="2197" h="1112">
                  <a:moveTo>
                    <a:pt x="2197" y="1112"/>
                  </a:moveTo>
                  <a:lnTo>
                    <a:pt x="2197" y="1112"/>
                  </a:lnTo>
                  <a:lnTo>
                    <a:pt x="2197" y="1112"/>
                  </a:lnTo>
                  <a:cubicBezTo>
                    <a:pt x="2197" y="917"/>
                    <a:pt x="2095" y="725"/>
                    <a:pt x="1903" y="556"/>
                  </a:cubicBezTo>
                  <a:cubicBezTo>
                    <a:pt x="1710" y="387"/>
                    <a:pt x="1432" y="247"/>
                    <a:pt x="1098" y="149"/>
                  </a:cubicBezTo>
                  <a:cubicBezTo>
                    <a:pt x="765" y="51"/>
                    <a:pt x="386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7520" y="2695680"/>
              <a:ext cx="174132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7520" y="2771640"/>
              <a:ext cx="174132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7880" y="51433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65360" y="3587760"/>
              <a:ext cx="152640" cy="228960"/>
            </a:xfrm>
            <a:custGeom>
              <a:avLst/>
              <a:gdLst/>
              <a:ahLst/>
              <a:rect l="0" t="0" r="r" b="b"/>
              <a:pathLst>
                <a:path fill="none" w="424" h="636">
                  <a:moveTo>
                    <a:pt x="211" y="636"/>
                  </a:moveTo>
                  <a:lnTo>
                    <a:pt x="424" y="318"/>
                  </a:lnTo>
                  <a:lnTo>
                    <a:pt x="211" y="0"/>
                  </a:lnTo>
                  <a:lnTo>
                    <a:pt x="0" y="318"/>
                  </a:lnTo>
                  <a:lnTo>
                    <a:pt x="211" y="63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638440" y="3809880"/>
              <a:ext cx="14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039000" y="1666800"/>
              <a:ext cx="2514600" cy="6001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mmands [top] = cm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md.Do 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37600" y="166356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636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1640" y="2038320"/>
              <a:ext cx="667080" cy="886320"/>
            </a:xfrm>
            <a:custGeom>
              <a:avLst/>
              <a:gdLst/>
              <a:ahLst/>
              <a:rect l="0" t="0" r="r" b="b"/>
              <a:pathLst>
                <a:path fill="none" w="1853" h="2462">
                  <a:moveTo>
                    <a:pt x="0" y="2462"/>
                  </a:moveTo>
                  <a:lnTo>
                    <a:pt x="0" y="2462"/>
                  </a:lnTo>
                  <a:cubicBezTo>
                    <a:pt x="325" y="2462"/>
                    <a:pt x="645" y="2348"/>
                    <a:pt x="927" y="2132"/>
                  </a:cubicBezTo>
                  <a:cubicBezTo>
                    <a:pt x="1208" y="1916"/>
                    <a:pt x="1442" y="1605"/>
                    <a:pt x="1605" y="1231"/>
                  </a:cubicBezTo>
                  <a:cubicBezTo>
                    <a:pt x="1767" y="857"/>
                    <a:pt x="1853" y="432"/>
                    <a:pt x="1853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5280" y="28843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0040" y="3076560"/>
              <a:ext cx="9540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089760" y="3149640"/>
              <a:ext cx="6858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LIFO}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557856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18520" y="166356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0040" y="4191120"/>
              <a:ext cx="9540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24360" y="1943280"/>
              <a:ext cx="371880" cy="1019520"/>
            </a:xfrm>
            <a:custGeom>
              <a:avLst/>
              <a:gdLst/>
              <a:ahLst/>
              <a:rect l="0" t="0" r="r" b="b"/>
              <a:pathLst>
                <a:path fill="none" w="1033" h="2832">
                  <a:moveTo>
                    <a:pt x="1033" y="2832"/>
                  </a:moveTo>
                  <a:lnTo>
                    <a:pt x="1033" y="2832"/>
                  </a:lnTo>
                  <a:lnTo>
                    <a:pt x="1033" y="2832"/>
                  </a:lnTo>
                  <a:cubicBezTo>
                    <a:pt x="1033" y="2335"/>
                    <a:pt x="985" y="1847"/>
                    <a:pt x="895" y="1416"/>
                  </a:cubicBezTo>
                  <a:cubicBezTo>
                    <a:pt x="804" y="985"/>
                    <a:pt x="674" y="628"/>
                    <a:pt x="516" y="379"/>
                  </a:cubicBezTo>
                  <a:cubicBezTo>
                    <a:pt x="359" y="131"/>
                    <a:pt x="18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61120" y="259884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314960" y="4381560"/>
              <a:ext cx="1628640" cy="3556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This.Do 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439092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636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08520" y="437832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3600" y="4210200"/>
              <a:ext cx="829080" cy="390960"/>
            </a:xfrm>
            <a:custGeom>
              <a:avLst/>
              <a:gdLst/>
              <a:ahLst/>
              <a:rect l="0" t="0" r="r" b="b"/>
              <a:pathLst>
                <a:path fill="none" w="2303" h="1086">
                  <a:moveTo>
                    <a:pt x="2303" y="0"/>
                  </a:moveTo>
                  <a:lnTo>
                    <a:pt x="2303" y="0"/>
                  </a:lnTo>
                  <a:cubicBezTo>
                    <a:pt x="1899" y="0"/>
                    <a:pt x="1502" y="50"/>
                    <a:pt x="1151" y="145"/>
                  </a:cubicBezTo>
                  <a:cubicBezTo>
                    <a:pt x="801" y="241"/>
                    <a:pt x="511" y="378"/>
                    <a:pt x="309" y="543"/>
                  </a:cubicBezTo>
                  <a:cubicBezTo>
                    <a:pt x="106" y="708"/>
                    <a:pt x="0" y="895"/>
                    <a:pt x="0" y="1086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42080" y="41133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81200" y="4114800"/>
              <a:ext cx="9540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22840" y="169560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 / Redo Stack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28720" y="1892160"/>
            <a:ext cx="5813640" cy="4197600"/>
            <a:chOff x="1728720" y="1892160"/>
            <a:chExt cx="5813640" cy="4197600"/>
          </a:xfrm>
        </p:grpSpPr>
        <p:sp>
          <p:nvSpPr>
            <p:cNvPr id="141" name=""/>
            <p:cNvSpPr txBox="1"/>
            <p:nvPr/>
          </p:nvSpPr>
          <p:spPr>
            <a:xfrm>
              <a:off x="1728720" y="1892160"/>
              <a:ext cx="4851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Stack after doing 4 command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637160" y="2679840"/>
              <a:ext cx="101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do 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5907240" y="2666880"/>
              <a:ext cx="101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o 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728720" y="2333520"/>
              <a:ext cx="121284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ert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378240" y="2333520"/>
              <a:ext cx="92556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737240" y="2333520"/>
              <a:ext cx="91296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6095880" y="2333520"/>
              <a:ext cx="91296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44800" y="25257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03800" y="25257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62440" y="2525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8840" y="2525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13760" y="23986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48320" y="2692440"/>
              <a:ext cx="546480" cy="165600"/>
            </a:xfrm>
            <a:custGeom>
              <a:avLst/>
              <a:gdLst/>
              <a:ahLst/>
              <a:rect l="0" t="0" r="r" b="b"/>
              <a:pathLst>
                <a:path fill="none" w="1518" h="460">
                  <a:moveTo>
                    <a:pt x="0" y="460"/>
                  </a:moveTo>
                  <a:lnTo>
                    <a:pt x="0" y="460"/>
                  </a:lnTo>
                  <a:cubicBezTo>
                    <a:pt x="266" y="460"/>
                    <a:pt x="528" y="439"/>
                    <a:pt x="759" y="398"/>
                  </a:cubicBezTo>
                  <a:cubicBezTo>
                    <a:pt x="990" y="358"/>
                    <a:pt x="1181" y="300"/>
                    <a:pt x="1315" y="230"/>
                  </a:cubicBezTo>
                  <a:cubicBezTo>
                    <a:pt x="1448" y="160"/>
                    <a:pt x="1518" y="81"/>
                    <a:pt x="1518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18400" y="2641680"/>
              <a:ext cx="483120" cy="203400"/>
            </a:xfrm>
            <a:custGeom>
              <a:avLst/>
              <a:gdLst/>
              <a:ahLst/>
              <a:rect l="0" t="0" r="r" b="b"/>
              <a:pathLst>
                <a:path fill="none" w="1342" h="565">
                  <a:moveTo>
                    <a:pt x="0" y="565"/>
                  </a:moveTo>
                  <a:lnTo>
                    <a:pt x="0" y="565"/>
                  </a:lnTo>
                  <a:cubicBezTo>
                    <a:pt x="236" y="565"/>
                    <a:pt x="467" y="539"/>
                    <a:pt x="671" y="489"/>
                  </a:cubicBezTo>
                  <a:cubicBezTo>
                    <a:pt x="875" y="440"/>
                    <a:pt x="1044" y="368"/>
                    <a:pt x="1162" y="282"/>
                  </a:cubicBezTo>
                  <a:cubicBezTo>
                    <a:pt x="1280" y="197"/>
                    <a:pt x="1342" y="99"/>
                    <a:pt x="1342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728720" y="2933640"/>
              <a:ext cx="5397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Stack after undoing 2 command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728720" y="3375000"/>
              <a:ext cx="121284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ert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378240" y="3375000"/>
              <a:ext cx="92556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4737240" y="3375000"/>
              <a:ext cx="912960" cy="3859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095880" y="3375000"/>
              <a:ext cx="912960" cy="3859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44800" y="35672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03800" y="35672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62440" y="35672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19440" y="344016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927080" y="3720960"/>
              <a:ext cx="101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do 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30680" y="3733920"/>
              <a:ext cx="546480" cy="165600"/>
            </a:xfrm>
            <a:custGeom>
              <a:avLst/>
              <a:gdLst/>
              <a:ahLst/>
              <a:rect l="0" t="0" r="r" b="b"/>
              <a:pathLst>
                <a:path fill="none" w="1518" h="460">
                  <a:moveTo>
                    <a:pt x="0" y="460"/>
                  </a:moveTo>
                  <a:lnTo>
                    <a:pt x="0" y="460"/>
                  </a:lnTo>
                  <a:cubicBezTo>
                    <a:pt x="266" y="460"/>
                    <a:pt x="528" y="439"/>
                    <a:pt x="759" y="398"/>
                  </a:cubicBezTo>
                  <a:cubicBezTo>
                    <a:pt x="990" y="358"/>
                    <a:pt x="1181" y="300"/>
                    <a:pt x="1315" y="230"/>
                  </a:cubicBezTo>
                  <a:cubicBezTo>
                    <a:pt x="1448" y="160"/>
                    <a:pt x="1518" y="81"/>
                    <a:pt x="1518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054840" y="3708360"/>
              <a:ext cx="101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o 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2440" y="3720960"/>
              <a:ext cx="584640" cy="165600"/>
            </a:xfrm>
            <a:custGeom>
              <a:avLst/>
              <a:gdLst/>
              <a:ahLst/>
              <a:rect l="0" t="0" r="r" b="b"/>
              <a:pathLst>
                <a:path fill="none" w="1624" h="460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5" y="160"/>
                    <a:pt x="218" y="230"/>
                  </a:cubicBezTo>
                  <a:cubicBezTo>
                    <a:pt x="360" y="300"/>
                    <a:pt x="565" y="358"/>
                    <a:pt x="812" y="398"/>
                  </a:cubicBezTo>
                  <a:cubicBezTo>
                    <a:pt x="1059" y="439"/>
                    <a:pt x="1339" y="460"/>
                    <a:pt x="1624" y="46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728720" y="3962520"/>
              <a:ext cx="5397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Stack after redoing 1 comman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3265560" y="4749840"/>
              <a:ext cx="101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do 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599000" y="4749840"/>
              <a:ext cx="101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o 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728720" y="4403880"/>
              <a:ext cx="121284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ert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3378240" y="4403880"/>
              <a:ext cx="92556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4737240" y="4403880"/>
              <a:ext cx="912960" cy="385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095880" y="4403880"/>
              <a:ext cx="912960" cy="3859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4800" y="45957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3800" y="45957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2440" y="4595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8440" y="44686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89320" y="4762440"/>
              <a:ext cx="546480" cy="165600"/>
            </a:xfrm>
            <a:custGeom>
              <a:avLst/>
              <a:gdLst/>
              <a:ahLst/>
              <a:rect l="0" t="0" r="r" b="b"/>
              <a:pathLst>
                <a:path fill="none" w="1518" h="460">
                  <a:moveTo>
                    <a:pt x="0" y="460"/>
                  </a:moveTo>
                  <a:lnTo>
                    <a:pt x="0" y="460"/>
                  </a:lnTo>
                  <a:cubicBezTo>
                    <a:pt x="266" y="460"/>
                    <a:pt x="528" y="439"/>
                    <a:pt x="759" y="398"/>
                  </a:cubicBezTo>
                  <a:cubicBezTo>
                    <a:pt x="990" y="358"/>
                    <a:pt x="1181" y="300"/>
                    <a:pt x="1315" y="230"/>
                  </a:cubicBezTo>
                  <a:cubicBezTo>
                    <a:pt x="1448" y="160"/>
                    <a:pt x="1518" y="81"/>
                    <a:pt x="1518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97560" y="4762440"/>
              <a:ext cx="584640" cy="165600"/>
            </a:xfrm>
            <a:custGeom>
              <a:avLst/>
              <a:gdLst/>
              <a:ahLst/>
              <a:rect l="0" t="0" r="r" b="b"/>
              <a:pathLst>
                <a:path fill="none" w="1624" h="460">
                  <a:moveTo>
                    <a:pt x="0" y="460"/>
                  </a:moveTo>
                  <a:lnTo>
                    <a:pt x="0" y="460"/>
                  </a:lnTo>
                  <a:cubicBezTo>
                    <a:pt x="285" y="460"/>
                    <a:pt x="565" y="439"/>
                    <a:pt x="812" y="398"/>
                  </a:cubicBezTo>
                  <a:cubicBezTo>
                    <a:pt x="1059" y="358"/>
                    <a:pt x="1264" y="300"/>
                    <a:pt x="1406" y="230"/>
                  </a:cubicBezTo>
                  <a:cubicBezTo>
                    <a:pt x="1549" y="160"/>
                    <a:pt x="1624" y="81"/>
                    <a:pt x="1624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1728720" y="4965840"/>
              <a:ext cx="5397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Stack after doing another comman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728720" y="5407200"/>
              <a:ext cx="5813640" cy="682560"/>
              <a:chOff x="1728720" y="5407200"/>
              <a:chExt cx="5813640" cy="682560"/>
            </a:xfrm>
          </p:grpSpPr>
          <p:sp>
            <p:nvSpPr>
              <p:cNvPr id="183" name=""/>
              <p:cNvSpPr txBox="1"/>
              <p:nvPr/>
            </p:nvSpPr>
            <p:spPr>
              <a:xfrm>
                <a:off x="1728720" y="5407200"/>
                <a:ext cx="1212840" cy="38592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sertR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3378240" y="5407200"/>
                <a:ext cx="925560" cy="38592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d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737240" y="5407200"/>
                <a:ext cx="912960" cy="38592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d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6095880" y="5407200"/>
                <a:ext cx="1217520" cy="38592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pyR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44800" y="5599080"/>
                <a:ext cx="43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03800" y="5599080"/>
                <a:ext cx="43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62440" y="5599080"/>
                <a:ext cx="43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26360" y="559908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42360" y="5472000"/>
                <a:ext cx="0" cy="25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4657680" y="5753160"/>
                <a:ext cx="10159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ndo 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60920" y="5765760"/>
                <a:ext cx="546480" cy="165600"/>
              </a:xfrm>
              <a:custGeom>
                <a:avLst/>
                <a:gdLst/>
                <a:ahLst/>
                <a:rect l="0" t="0" r="r" b="b"/>
                <a:pathLst>
                  <a:path fill="none" w="1518" h="460">
                    <a:moveTo>
                      <a:pt x="0" y="460"/>
                    </a:moveTo>
                    <a:lnTo>
                      <a:pt x="0" y="460"/>
                    </a:lnTo>
                    <a:cubicBezTo>
                      <a:pt x="266" y="460"/>
                      <a:pt x="528" y="439"/>
                      <a:pt x="759" y="398"/>
                    </a:cubicBezTo>
                    <a:cubicBezTo>
                      <a:pt x="990" y="358"/>
                      <a:pt x="1181" y="300"/>
                      <a:pt x="1315" y="230"/>
                    </a:cubicBezTo>
                    <a:cubicBezTo>
                      <a:pt x="1448" y="160"/>
                      <a:pt x="1518" y="81"/>
                      <a:pt x="1518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6130800" y="5753160"/>
                <a:ext cx="10159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do 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07400" y="5727600"/>
                <a:ext cx="524160" cy="203400"/>
              </a:xfrm>
              <a:custGeom>
                <a:avLst/>
                <a:gdLst/>
                <a:ahLst/>
                <a:rect l="0" t="0" r="r" b="b"/>
                <a:pathLst>
                  <a:path fill="none" w="1456" h="565">
                    <a:moveTo>
                      <a:pt x="0" y="565"/>
                    </a:moveTo>
                    <a:lnTo>
                      <a:pt x="0" y="565"/>
                    </a:lnTo>
                    <a:cubicBezTo>
                      <a:pt x="256" y="565"/>
                      <a:pt x="507" y="539"/>
                      <a:pt x="728" y="489"/>
                    </a:cubicBezTo>
                    <a:cubicBezTo>
                      <a:pt x="949" y="440"/>
                      <a:pt x="1133" y="368"/>
                      <a:pt x="1261" y="282"/>
                    </a:cubicBezTo>
                    <a:cubicBezTo>
                      <a:pt x="1389" y="197"/>
                      <a:pt x="1456" y="99"/>
                      <a:pt x="1456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Redo PowerBuilde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3200" y="1714680"/>
            <a:ext cx="7750080" cy="4791600"/>
            <a:chOff x="673200" y="1714680"/>
            <a:chExt cx="7750080" cy="4791600"/>
          </a:xfrm>
        </p:grpSpPr>
        <p:grpSp>
          <p:nvGrpSpPr>
            <p:cNvPr id="198" name=""/>
            <p:cNvGrpSpPr/>
            <p:nvPr/>
          </p:nvGrpSpPr>
          <p:grpSpPr>
            <a:xfrm>
              <a:off x="7148520" y="4168800"/>
              <a:ext cx="1274760" cy="1319760"/>
              <a:chOff x="7148520" y="4168800"/>
              <a:chExt cx="1274760" cy="1319760"/>
            </a:xfrm>
          </p:grpSpPr>
          <p:sp>
            <p:nvSpPr>
              <p:cNvPr id="199" name=""/>
              <p:cNvSpPr txBox="1"/>
              <p:nvPr/>
            </p:nvSpPr>
            <p:spPr>
              <a:xfrm>
                <a:off x="7148520" y="4168800"/>
                <a:ext cx="1274760" cy="13197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CmdDeleteRo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dwItem items[]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dwItemStatus rowSta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ng deletedRow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Setup (dw, row, col)</a:t>
                </a:r>
                <a:br>
                  <a:rPr sz="1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 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53200" y="4403880"/>
                <a:ext cx="127008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53200" y="4842000"/>
                <a:ext cx="127008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881600" y="5467320"/>
              <a:ext cx="1563480" cy="1038960"/>
              <a:chOff x="4881600" y="5467320"/>
              <a:chExt cx="1563480" cy="1038960"/>
            </a:xfrm>
          </p:grpSpPr>
          <p:sp>
            <p:nvSpPr>
              <p:cNvPr id="203" name=""/>
              <p:cNvSpPr txBox="1"/>
              <p:nvPr/>
            </p:nvSpPr>
            <p:spPr>
              <a:xfrm>
                <a:off x="4881600" y="5467320"/>
                <a:ext cx="1550880" cy="10389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CmdCopyRo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ng destRow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Setup (dw, row, col, dest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 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8880" y="5880240"/>
                <a:ext cx="154620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86280" y="5695920"/>
                <a:ext cx="154620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533840" y="4162320"/>
              <a:ext cx="1220760" cy="1460160"/>
              <a:chOff x="4533840" y="4162320"/>
              <a:chExt cx="1220760" cy="146016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4533840" y="4162320"/>
                <a:ext cx="1219320" cy="14601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CmdEdi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string origValue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string newValu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Setup (dw, row, col)</a:t>
                </a:r>
                <a:br>
                  <a:rPr sz="1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Redo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pdate(newvalu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38520" y="4397400"/>
                <a:ext cx="121608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38520" y="4708440"/>
                <a:ext cx="121608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172120" y="2314440"/>
              <a:ext cx="1378080" cy="1460160"/>
              <a:chOff x="5172120" y="2314440"/>
              <a:chExt cx="1378080" cy="146016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5173560" y="2314440"/>
                <a:ext cx="1366920" cy="14601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aCm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dwa targe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ng origRow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string origColum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Initialize (dw, row, col)</a:t>
                </a:r>
                <a:br>
                  <a:rPr sz="1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Do ()</a:t>
                </a:r>
                <a:br>
                  <a:rPr sz="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Redo 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72120" y="2975040"/>
                <a:ext cx="136836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81480" y="2556000"/>
                <a:ext cx="136872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967360" y="4162320"/>
              <a:ext cx="998640" cy="1319760"/>
              <a:chOff x="5967360" y="4162320"/>
              <a:chExt cx="998640" cy="1319760"/>
            </a:xfrm>
          </p:grpSpPr>
          <p:sp>
            <p:nvSpPr>
              <p:cNvPr id="215" name=""/>
              <p:cNvSpPr txBox="1"/>
              <p:nvPr/>
            </p:nvSpPr>
            <p:spPr>
              <a:xfrm>
                <a:off x="5967360" y="4162320"/>
                <a:ext cx="998640" cy="13197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CmdS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string origSort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string newSor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Setup (dw,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      row,  col, sort)</a:t>
                </a:r>
                <a:br>
                  <a:rPr sz="1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Do ()</a:t>
                </a:r>
                <a:br>
                  <a:rPr sz="1800"/>
                </a:br>
                <a:r>
                  <a:rPr b="0" i="1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 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5967360" y="4714920"/>
                <a:ext cx="998640" cy="324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5967360" y="4400640"/>
                <a:ext cx="998640" cy="324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562800" y="5467320"/>
              <a:ext cx="1222200" cy="1038960"/>
              <a:chOff x="6562800" y="5467320"/>
              <a:chExt cx="1222200" cy="1038960"/>
            </a:xfrm>
          </p:grpSpPr>
          <p:sp>
            <p:nvSpPr>
              <p:cNvPr id="219" name=""/>
              <p:cNvSpPr txBox="1"/>
              <p:nvPr/>
            </p:nvSpPr>
            <p:spPr>
              <a:xfrm>
                <a:off x="6562800" y="5467320"/>
                <a:ext cx="1212840" cy="10389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CmdInsertRo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ng newRow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Setup (dw, row, col)</a:t>
                </a:r>
                <a:br>
                  <a:rPr sz="1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 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960" y="5892840"/>
                <a:ext cx="1211040" cy="324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64240" y="5702400"/>
                <a:ext cx="1211400" cy="324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146560" y="3905280"/>
              <a:ext cx="26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24360" y="3724200"/>
              <a:ext cx="238320" cy="181440"/>
            </a:xfrm>
            <a:custGeom>
              <a:avLst/>
              <a:gdLst/>
              <a:ahLst/>
              <a:rect l="0" t="0" r="r" b="b"/>
              <a:pathLst>
                <a:path fill="none" w="662" h="504">
                  <a:moveTo>
                    <a:pt x="0" y="504"/>
                  </a:moveTo>
                  <a:lnTo>
                    <a:pt x="662" y="504"/>
                  </a:lnTo>
                  <a:lnTo>
                    <a:pt x="330" y="0"/>
                  </a:lnTo>
                  <a:lnTo>
                    <a:pt x="0" y="50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843520" y="35528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5000" y="390528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080" y="3905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61040" y="3905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56240" y="3905280"/>
              <a:ext cx="5040" cy="25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162240" y="1714680"/>
              <a:ext cx="1343160" cy="1740960"/>
              <a:chOff x="3162240" y="1714680"/>
              <a:chExt cx="1343160" cy="1740960"/>
            </a:xfrm>
          </p:grpSpPr>
          <p:sp>
            <p:nvSpPr>
              <p:cNvPr id="230" name=""/>
              <p:cNvSpPr txBox="1"/>
              <p:nvPr/>
            </p:nvSpPr>
            <p:spPr>
              <a:xfrm>
                <a:off x="3164040" y="1714680"/>
                <a:ext cx="1332000" cy="17409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UndoRed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cmd commands[]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ng idxLastUndo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ng idxLastRed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Do (cmd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Re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RedoCount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Reset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 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UndoCount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62240" y="2374920"/>
                <a:ext cx="133344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71960" y="1955880"/>
                <a:ext cx="133344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97480" y="2562120"/>
              <a:ext cx="674640" cy="114840"/>
              <a:chOff x="4497480" y="2562120"/>
              <a:chExt cx="674640" cy="1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4497480" y="2562120"/>
                <a:ext cx="179640" cy="114840"/>
              </a:xfrm>
              <a:custGeom>
                <a:avLst/>
                <a:gdLst/>
                <a:ahLst/>
                <a:rect l="0" t="0" r="r" b="b"/>
                <a:pathLst>
                  <a:path fill="none" w="499" h="319">
                    <a:moveTo>
                      <a:pt x="250" y="319"/>
                    </a:moveTo>
                    <a:lnTo>
                      <a:pt x="499" y="159"/>
                    </a:lnTo>
                    <a:lnTo>
                      <a:pt x="250" y="0"/>
                    </a:lnTo>
                    <a:lnTo>
                      <a:pt x="0" y="159"/>
                    </a:lnTo>
                    <a:lnTo>
                      <a:pt x="250" y="31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67400" y="261936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86440" y="2581200"/>
                <a:ext cx="85680" cy="95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86160" y="3514680"/>
              <a:ext cx="1857240" cy="1881360"/>
              <a:chOff x="2486160" y="3514680"/>
              <a:chExt cx="1857240" cy="1881360"/>
            </a:xfrm>
          </p:grpSpPr>
          <p:sp>
            <p:nvSpPr>
              <p:cNvPr id="238" name=""/>
              <p:cNvSpPr txBox="1"/>
              <p:nvPr/>
            </p:nvSpPr>
            <p:spPr>
              <a:xfrm>
                <a:off x="2487600" y="3514680"/>
                <a:ext cx="1846440" cy="18813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dw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CmdEdit editColum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IsModified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CopyRow (cmd, source, dest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DeleteRow(cmd, row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InsertRow(cmd, row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ItemModified(cmd, row, col, val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GetSort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DoSort(sort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SetItem(dwItem, row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GetItem(dwItem, row, column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86160" y="3927600"/>
                <a:ext cx="184788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95520" y="3755880"/>
                <a:ext cx="184788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79320" y="1733400"/>
              <a:ext cx="1343160" cy="2021760"/>
              <a:chOff x="679320" y="1733400"/>
              <a:chExt cx="1343160" cy="2021760"/>
            </a:xfrm>
          </p:grpSpPr>
          <p:sp>
            <p:nvSpPr>
              <p:cNvPr id="242" name=""/>
              <p:cNvSpPr txBox="1"/>
              <p:nvPr/>
            </p:nvSpPr>
            <p:spPr>
              <a:xfrm>
                <a:off x="681120" y="1733400"/>
                <a:ext cx="1332000" cy="20217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aB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UndoRedo Stack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boolean useUndoRed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CreateUndoRedo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GetUndoRedo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UseUndoRedo(use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Undo()wufRedo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ResetUndo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Modified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IsModified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CanUndo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CanRedo(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9320" y="2279520"/>
                <a:ext cx="133380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9040" y="1974960"/>
                <a:ext cx="133344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73200" y="4435560"/>
              <a:ext cx="1365120" cy="1740960"/>
              <a:chOff x="673200" y="4435560"/>
              <a:chExt cx="1365120" cy="1740960"/>
            </a:xfrm>
          </p:grpSpPr>
          <p:sp>
            <p:nvSpPr>
              <p:cNvPr id="246" name=""/>
              <p:cNvSpPr txBox="1"/>
              <p:nvPr/>
            </p:nvSpPr>
            <p:spPr>
              <a:xfrm>
                <a:off x="673200" y="4435560"/>
                <a:ext cx="1365120" cy="17409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aSpreadshe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datawindow spreadshe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Modified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IsModified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Update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InsertRow(row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AllowUpdate(allow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IsUpdateAllowed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CopyRow(src, dest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fDeleteRow(row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4880" y="4648320"/>
                <a:ext cx="133344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1640" y="4861080"/>
                <a:ext cx="133344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141880" y="3905280"/>
              <a:ext cx="4680" cy="25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1920" y="4254480"/>
              <a:ext cx="238320" cy="181440"/>
            </a:xfrm>
            <a:custGeom>
              <a:avLst/>
              <a:gdLst/>
              <a:ahLst/>
              <a:rect l="0" t="0" r="r" b="b"/>
              <a:pathLst>
                <a:path fill="none" w="662" h="504">
                  <a:moveTo>
                    <a:pt x="0" y="504"/>
                  </a:moveTo>
                  <a:lnTo>
                    <a:pt x="662" y="504"/>
                  </a:lnTo>
                  <a:lnTo>
                    <a:pt x="330" y="0"/>
                  </a:lnTo>
                  <a:lnTo>
                    <a:pt x="0" y="50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346040" y="3463920"/>
              <a:ext cx="5040" cy="80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49480" y="4892760"/>
              <a:ext cx="179640" cy="114840"/>
            </a:xfrm>
            <a:custGeom>
              <a:avLst/>
              <a:gdLst/>
              <a:ahLst/>
              <a:rect l="0" t="0" r="r" b="b"/>
              <a:pathLst>
                <a:path fill="none" w="499" h="319">
                  <a:moveTo>
                    <a:pt x="250" y="319"/>
                  </a:moveTo>
                  <a:lnTo>
                    <a:pt x="499" y="159"/>
                  </a:lnTo>
                  <a:lnTo>
                    <a:pt x="250" y="0"/>
                  </a:lnTo>
                  <a:lnTo>
                    <a:pt x="0" y="159"/>
                  </a:lnTo>
                  <a:lnTo>
                    <a:pt x="250" y="3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19400" y="4950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33640" y="2048040"/>
              <a:ext cx="179640" cy="114840"/>
            </a:xfrm>
            <a:custGeom>
              <a:avLst/>
              <a:gdLst/>
              <a:ahLst/>
              <a:rect l="0" t="0" r="r" b="b"/>
              <a:pathLst>
                <a:path fill="none" w="499" h="319">
                  <a:moveTo>
                    <a:pt x="250" y="319"/>
                  </a:moveTo>
                  <a:lnTo>
                    <a:pt x="499" y="159"/>
                  </a:lnTo>
                  <a:lnTo>
                    <a:pt x="250" y="0"/>
                  </a:lnTo>
                  <a:lnTo>
                    <a:pt x="0" y="159"/>
                  </a:lnTo>
                  <a:lnTo>
                    <a:pt x="250" y="3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03560" y="2104920"/>
              <a:ext cx="9586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838760" y="3486240"/>
              <a:ext cx="2952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32280" y="34862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308480" y="3762360"/>
              <a:ext cx="5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86440" y="3438360"/>
              <a:ext cx="85680" cy="9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13080" y="5121360"/>
              <a:ext cx="119520" cy="165600"/>
            </a:xfrm>
            <a:custGeom>
              <a:avLst/>
              <a:gdLst/>
              <a:ahLst/>
              <a:rect l="0" t="0" r="r" b="b"/>
              <a:pathLst>
                <a:path fill="none" w="332" h="460">
                  <a:moveTo>
                    <a:pt x="166" y="460"/>
                  </a:moveTo>
                  <a:lnTo>
                    <a:pt x="332" y="230"/>
                  </a:lnTo>
                  <a:lnTo>
                    <a:pt x="166" y="0"/>
                  </a:lnTo>
                  <a:lnTo>
                    <a:pt x="0" y="230"/>
                  </a:lnTo>
                  <a:lnTo>
                    <a:pt x="166" y="4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375000" y="5359320"/>
              <a:ext cx="11588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75000" y="527688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273400" y="331488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73400" y="331488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31840" y="469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886440" y="1730520"/>
              <a:ext cx="1378080" cy="898560"/>
              <a:chOff x="6886440" y="1730520"/>
              <a:chExt cx="1378080" cy="898560"/>
            </a:xfrm>
          </p:grpSpPr>
          <p:sp>
            <p:nvSpPr>
              <p:cNvPr id="267" name=""/>
              <p:cNvSpPr txBox="1"/>
              <p:nvPr/>
            </p:nvSpPr>
            <p:spPr>
              <a:xfrm>
                <a:off x="6888240" y="1730520"/>
                <a:ext cx="1366920" cy="898560"/>
              </a:xfrm>
              <a:prstGeom prst="rect">
                <a:avLst/>
              </a:prstGeom>
              <a:noFill/>
              <a:ln w="12600">
                <a:solidFill>
                  <a:srgbClr val="00ae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nvaB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string nam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GetName()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ufSetName(nam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86440" y="2149560"/>
                <a:ext cx="136872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96160" y="1971720"/>
                <a:ext cx="1368360" cy="0"/>
              </a:xfrm>
              <a:prstGeom prst="line">
                <a:avLst/>
              </a:prstGeom>
              <a:ln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4495680" y="1930320"/>
              <a:ext cx="238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42080" y="1816200"/>
              <a:ext cx="181440" cy="238320"/>
            </a:xfrm>
            <a:custGeom>
              <a:avLst/>
              <a:gdLst/>
              <a:ahLst/>
              <a:rect l="0" t="0" r="r" b="b"/>
              <a:pathLst>
                <a:path w="504" h="662">
                  <a:moveTo>
                    <a:pt x="0" y="0"/>
                  </a:moveTo>
                  <a:lnTo>
                    <a:pt x="0" y="662"/>
                  </a:lnTo>
                  <a:lnTo>
                    <a:pt x="504" y="3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42080" y="19303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preadshee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65160" y="2122560"/>
            <a:ext cx="7971120" cy="4111560"/>
            <a:chOff x="965160" y="2122560"/>
            <a:chExt cx="7971120" cy="4111560"/>
          </a:xfrm>
        </p:grpSpPr>
        <p:sp>
          <p:nvSpPr>
            <p:cNvPr id="275" name=""/>
            <p:cNvSpPr txBox="1"/>
            <p:nvPr/>
          </p:nvSpPr>
          <p:spPr>
            <a:xfrm>
              <a:off x="6448320" y="4618080"/>
              <a:ext cx="2455920" cy="61596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IsModifed(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Returns TRUE if any changes have not been sav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745480" y="4614840"/>
              <a:ext cx="155880" cy="190800"/>
            </a:xfrm>
            <a:custGeom>
              <a:avLst/>
              <a:gdLst/>
              <a:ahLst/>
              <a:rect l="0" t="0" r="r" b="b"/>
              <a:pathLst>
                <a:path w="433" h="530">
                  <a:moveTo>
                    <a:pt x="433" y="0"/>
                  </a:moveTo>
                  <a:lnTo>
                    <a:pt x="0" y="0"/>
                  </a:lnTo>
                  <a:lnTo>
                    <a:pt x="433" y="53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6429240" y="3370320"/>
              <a:ext cx="2503440" cy="7840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CopyRow(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reates and initializes a CopyRow command and then pass it to the UndoRedo stack for processing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715240" y="3373560"/>
              <a:ext cx="217800" cy="228960"/>
            </a:xfrm>
            <a:custGeom>
              <a:avLst/>
              <a:gdLst/>
              <a:ahLst/>
              <a:rect l="0" t="0" r="r" b="b"/>
              <a:pathLst>
                <a:path w="605" h="636">
                  <a:moveTo>
                    <a:pt x="605" y="0"/>
                  </a:moveTo>
                  <a:lnTo>
                    <a:pt x="0" y="0"/>
                  </a:lnTo>
                  <a:lnTo>
                    <a:pt x="605" y="636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10560" y="3370320"/>
              <a:ext cx="225720" cy="228960"/>
            </a:xfrm>
            <a:custGeom>
              <a:avLst/>
              <a:gdLst/>
              <a:ahLst/>
              <a:rect l="0" t="0" r="r" b="b"/>
              <a:pathLst>
                <a:path w="627" h="636">
                  <a:moveTo>
                    <a:pt x="0" y="636"/>
                  </a:moveTo>
                  <a:lnTo>
                    <a:pt x="627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909960" y="2338560"/>
              <a:ext cx="2228760" cy="2177640"/>
            </a:xfrm>
            <a:prstGeom prst="rect">
              <a:avLst/>
            </a:prstGeom>
            <a:noFill/>
            <a:ln w="2556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aSpread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AllowUpdate (allow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CopyRow (rowfrom, rowto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DeleteRow (row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InsertRow (row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IsModified(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IsUpdateAllowed(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Modified(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Update(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loseQuery {event}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25800" y="2678040"/>
              <a:ext cx="2203560" cy="324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2725560"/>
              <a:ext cx="2185920" cy="324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448320" y="2122560"/>
              <a:ext cx="2484360" cy="7840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AllowUpdate(allow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f allow=FALSE, update button is never enbled and user is not offered any opportunity to save chang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82200" y="2138400"/>
              <a:ext cx="151200" cy="165600"/>
            </a:xfrm>
            <a:custGeom>
              <a:avLst/>
              <a:gdLst/>
              <a:ahLst/>
              <a:rect l="0" t="0" r="r" b="b"/>
              <a:pathLst>
                <a:path w="420" h="460">
                  <a:moveTo>
                    <a:pt x="0" y="460"/>
                  </a:moveTo>
                  <a:lnTo>
                    <a:pt x="420" y="460"/>
                  </a:lnTo>
                  <a:lnTo>
                    <a:pt x="0" y="0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19680" y="2505240"/>
              <a:ext cx="728640" cy="3380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76840" y="28083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1840" y="3005280"/>
              <a:ext cx="347400" cy="6429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35760" y="29703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29160" y="2533680"/>
              <a:ext cx="328320" cy="6588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24360" y="31510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29160" y="2800440"/>
              <a:ext cx="328320" cy="5443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4360" y="3303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965160" y="2131920"/>
              <a:ext cx="2662200" cy="95256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DeleteRow(), wfInsertRow()</a:t>
              </a:r>
              <a:br>
                <a:rPr sz="18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ame as wfCopyRow, except the commands used: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* wfDeleteRow uses nvCmdDeleteRow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* wfInsertRow use nvCmdInsertRo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95520" y="2128680"/>
              <a:ext cx="232200" cy="228960"/>
            </a:xfrm>
            <a:custGeom>
              <a:avLst/>
              <a:gdLst/>
              <a:ahLst/>
              <a:rect l="0" t="0" r="r" b="b"/>
              <a:pathLst>
                <a:path w="645" h="636">
                  <a:moveTo>
                    <a:pt x="0" y="636"/>
                  </a:moveTo>
                  <a:lnTo>
                    <a:pt x="645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56640" y="4621320"/>
              <a:ext cx="147960" cy="165600"/>
            </a:xfrm>
            <a:custGeom>
              <a:avLst/>
              <a:gdLst/>
              <a:ahLst/>
              <a:rect l="0" t="0" r="r" b="b"/>
              <a:pathLst>
                <a:path w="411" h="460">
                  <a:moveTo>
                    <a:pt x="0" y="460"/>
                  </a:moveTo>
                  <a:lnTo>
                    <a:pt x="411" y="460"/>
                  </a:lnTo>
                  <a:lnTo>
                    <a:pt x="0" y="0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571920" y="3852720"/>
              <a:ext cx="376200" cy="424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4360" y="38178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629160" y="4057560"/>
              <a:ext cx="342720" cy="135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36960" y="4014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2046240" y="5398920"/>
              <a:ext cx="2806560" cy="61596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Update()</a:t>
              </a:r>
              <a:br>
                <a:rPr sz="18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Save any changes to the database, reporting any errors that occu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539604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636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14960" y="4195800"/>
              <a:ext cx="776160" cy="13287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6800" y="41608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5724360" y="5450040"/>
              <a:ext cx="2201760" cy="7840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loseQuery event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If changes have been made, ask user to Save, Cancel or Close w/o saving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11920" y="544680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636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1114560" y="3938760"/>
              <a:ext cx="2455920" cy="95256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fModified()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/ Disable buttons based on current edit status (e.g. enable update if changes made, enable Undo if able to undo, etc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38640" y="3935520"/>
              <a:ext cx="232200" cy="228960"/>
            </a:xfrm>
            <a:custGeom>
              <a:avLst/>
              <a:gdLst/>
              <a:ahLst/>
              <a:rect l="0" t="0" r="r" b="b"/>
              <a:pathLst>
                <a:path w="645" h="636">
                  <a:moveTo>
                    <a:pt x="0" y="636"/>
                  </a:moveTo>
                  <a:lnTo>
                    <a:pt x="645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92640" y="212868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35400" y="393552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18080" y="539604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01120" y="544680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77160" y="2125800"/>
              <a:ext cx="155880" cy="190800"/>
            </a:xfrm>
            <a:custGeom>
              <a:avLst/>
              <a:gdLst/>
              <a:ahLst/>
              <a:rect l="0" t="0" r="r" b="b"/>
              <a:pathLst>
                <a:path w="433" h="530">
                  <a:moveTo>
                    <a:pt x="433" y="0"/>
                  </a:moveTo>
                  <a:lnTo>
                    <a:pt x="0" y="0"/>
                  </a:lnTo>
                  <a:lnTo>
                    <a:pt x="433" y="53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1720" y="3510000"/>
              <a:ext cx="1042920" cy="11192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42120" y="34750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preadshe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vCmdDelete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054080" y="2108160"/>
            <a:ext cx="7226640" cy="3806640"/>
            <a:chOff x="1054080" y="2108160"/>
            <a:chExt cx="7226640" cy="3806640"/>
          </a:xfrm>
        </p:grpSpPr>
        <p:sp>
          <p:nvSpPr>
            <p:cNvPr id="317" name=""/>
            <p:cNvSpPr txBox="1"/>
            <p:nvPr/>
          </p:nvSpPr>
          <p:spPr>
            <a:xfrm>
              <a:off x="2400480" y="2108160"/>
              <a:ext cx="2006640" cy="70596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aSpread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DeleteRow (row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01920" y="251460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14520" y="245124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63760" y="2968560"/>
              <a:ext cx="305280" cy="228960"/>
            </a:xfrm>
            <a:custGeom>
              <a:avLst/>
              <a:gdLst/>
              <a:ahLst/>
              <a:rect l="0" t="0" r="r" b="b"/>
              <a:pathLst>
                <a:path fill="none" w="848" h="636">
                  <a:moveTo>
                    <a:pt x="0" y="636"/>
                  </a:moveTo>
                  <a:lnTo>
                    <a:pt x="848" y="636"/>
                  </a:lnTo>
                  <a:lnTo>
                    <a:pt x="424" y="0"/>
                  </a:lnTo>
                  <a:lnTo>
                    <a:pt x="0" y="63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16400" y="2793960"/>
              <a:ext cx="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413080" y="3200400"/>
              <a:ext cx="2006640" cy="94824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P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wfDeleteRow (row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Open {event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14520" y="355608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27120" y="363204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915080" y="2120760"/>
              <a:ext cx="2006640" cy="64296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nvCmdDelete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fDo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29120" y="247644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16520" y="241308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65760" y="3032280"/>
              <a:ext cx="305280" cy="228960"/>
            </a:xfrm>
            <a:custGeom>
              <a:avLst/>
              <a:gdLst/>
              <a:ahLst/>
              <a:rect l="0" t="0" r="r" b="b"/>
              <a:pathLst>
                <a:path fill="none" w="848" h="636">
                  <a:moveTo>
                    <a:pt x="0" y="636"/>
                  </a:moveTo>
                  <a:lnTo>
                    <a:pt x="848" y="636"/>
                  </a:lnTo>
                  <a:lnTo>
                    <a:pt x="424" y="0"/>
                  </a:lnTo>
                  <a:lnTo>
                    <a:pt x="0" y="63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918040" y="275580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915080" y="3263760"/>
              <a:ext cx="2006640" cy="879480"/>
            </a:xfrm>
            <a:prstGeom prst="rect">
              <a:avLst/>
            </a:prstGeom>
            <a:noFill/>
            <a:ln w="12600">
              <a:solidFill>
                <a:srgbClr val="00ae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nvCmdDeleteP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ufDo 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reate {event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29120" y="354348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29120" y="3619440"/>
              <a:ext cx="1995480" cy="0"/>
            </a:xfrm>
            <a:prstGeom prst="line">
              <a:avLst/>
            </a:prstGeom>
            <a:ln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19720" y="370836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1054080" y="4727520"/>
              <a:ext cx="3352680" cy="961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= Create nvCmdDeletePar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.ufSetup (dw_spreadsheet, row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dwSpreadsheet.GetColumnName()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dwSpreadsheet.ufDeleteRow 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75280" y="4724280"/>
              <a:ext cx="232200" cy="228960"/>
            </a:xfrm>
            <a:custGeom>
              <a:avLst/>
              <a:gdLst/>
              <a:ahLst/>
              <a:rect l="0" t="0" r="r" b="b"/>
              <a:pathLst>
                <a:path w="645" h="636">
                  <a:moveTo>
                    <a:pt x="0" y="636"/>
                  </a:moveTo>
                  <a:lnTo>
                    <a:pt x="645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1790640" y="4257720"/>
              <a:ext cx="2590920" cy="32400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_spreadsheet.Retriev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26040" y="4254480"/>
              <a:ext cx="155880" cy="190800"/>
            </a:xfrm>
            <a:custGeom>
              <a:avLst/>
              <a:gdLst/>
              <a:ahLst/>
              <a:rect l="0" t="0" r="r" b="b"/>
              <a:pathLst>
                <a:path w="433" h="530">
                  <a:moveTo>
                    <a:pt x="0" y="530"/>
                  </a:moveTo>
                  <a:lnTo>
                    <a:pt x="433" y="530"/>
                  </a:lnTo>
                  <a:lnTo>
                    <a:pt x="0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20760" y="3949560"/>
              <a:ext cx="305280" cy="292320"/>
            </a:xfrm>
            <a:custGeom>
              <a:avLst/>
              <a:gdLst/>
              <a:ahLst/>
              <a:rect l="0" t="0" r="r" b="b"/>
              <a:pathLst>
                <a:path fill="none" w="848" h="812">
                  <a:moveTo>
                    <a:pt x="848" y="0"/>
                  </a:moveTo>
                  <a:lnTo>
                    <a:pt x="848" y="0"/>
                  </a:lnTo>
                  <a:cubicBezTo>
                    <a:pt x="699" y="0"/>
                    <a:pt x="553" y="38"/>
                    <a:pt x="424" y="109"/>
                  </a:cubicBezTo>
                  <a:cubicBezTo>
                    <a:pt x="295" y="180"/>
                    <a:pt x="188" y="283"/>
                    <a:pt x="114" y="406"/>
                  </a:cubicBezTo>
                  <a:cubicBezTo>
                    <a:pt x="39" y="529"/>
                    <a:pt x="0" y="669"/>
                    <a:pt x="0" y="812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22360" y="3746520"/>
              <a:ext cx="991080" cy="952920"/>
            </a:xfrm>
            <a:custGeom>
              <a:avLst/>
              <a:gdLst/>
              <a:ahLst/>
              <a:rect l="0" t="0" r="r" b="b"/>
              <a:pathLst>
                <a:path fill="none" w="2753" h="2647">
                  <a:moveTo>
                    <a:pt x="2753" y="0"/>
                  </a:moveTo>
                  <a:lnTo>
                    <a:pt x="2753" y="0"/>
                  </a:lnTo>
                  <a:cubicBezTo>
                    <a:pt x="2270" y="0"/>
                    <a:pt x="1795" y="122"/>
                    <a:pt x="1376" y="355"/>
                  </a:cubicBezTo>
                  <a:cubicBezTo>
                    <a:pt x="958" y="587"/>
                    <a:pt x="610" y="921"/>
                    <a:pt x="369" y="1324"/>
                  </a:cubicBezTo>
                  <a:cubicBezTo>
                    <a:pt x="127" y="1726"/>
                    <a:pt x="0" y="2182"/>
                    <a:pt x="0" y="2647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92200" y="370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92200" y="39085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927680" y="4270320"/>
              <a:ext cx="2502000" cy="32400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fSetName (“Delete Part”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3800" y="4267080"/>
              <a:ext cx="155880" cy="190800"/>
            </a:xfrm>
            <a:custGeom>
              <a:avLst/>
              <a:gdLst/>
              <a:ahLst/>
              <a:rect l="0" t="0" r="r" b="b"/>
              <a:pathLst>
                <a:path w="433" h="530">
                  <a:moveTo>
                    <a:pt x="0" y="530"/>
                  </a:moveTo>
                  <a:lnTo>
                    <a:pt x="433" y="530"/>
                  </a:lnTo>
                  <a:lnTo>
                    <a:pt x="0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927680" y="4740120"/>
              <a:ext cx="3352680" cy="11746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MessageBox (“Are You Sure?”) Th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Return super::ufDo 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s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Return 0 //cancel the comm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d 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8520" y="4737240"/>
              <a:ext cx="232200" cy="228960"/>
            </a:xfrm>
            <a:custGeom>
              <a:avLst/>
              <a:gdLst/>
              <a:ahLst/>
              <a:rect l="0" t="0" r="r" b="b"/>
              <a:pathLst>
                <a:path w="645" h="636">
                  <a:moveTo>
                    <a:pt x="0" y="636"/>
                  </a:moveTo>
                  <a:lnTo>
                    <a:pt x="645" y="636"/>
                  </a:lnTo>
                  <a:lnTo>
                    <a:pt x="0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4800" y="3936960"/>
              <a:ext cx="508320" cy="330480"/>
            </a:xfrm>
            <a:custGeom>
              <a:avLst/>
              <a:gdLst/>
              <a:ahLst/>
              <a:rect l="0" t="0" r="r" b="b"/>
              <a:pathLst>
                <a:path fill="none" w="1412" h="918">
                  <a:moveTo>
                    <a:pt x="1412" y="918"/>
                  </a:moveTo>
                  <a:lnTo>
                    <a:pt x="1412" y="918"/>
                  </a:lnTo>
                  <a:lnTo>
                    <a:pt x="1412" y="918"/>
                  </a:lnTo>
                  <a:cubicBezTo>
                    <a:pt x="1412" y="757"/>
                    <a:pt x="1347" y="599"/>
                    <a:pt x="1223" y="459"/>
                  </a:cubicBezTo>
                  <a:cubicBezTo>
                    <a:pt x="1099" y="319"/>
                    <a:pt x="921" y="204"/>
                    <a:pt x="706" y="123"/>
                  </a:cubicBezTo>
                  <a:cubicBezTo>
                    <a:pt x="491" y="42"/>
                    <a:pt x="248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03840" y="3720960"/>
              <a:ext cx="1244880" cy="1016280"/>
            </a:xfrm>
            <a:custGeom>
              <a:avLst/>
              <a:gdLst/>
              <a:ahLst/>
              <a:rect l="0" t="0" r="r" b="b"/>
              <a:pathLst>
                <a:path fill="none" w="3458" h="2823">
                  <a:moveTo>
                    <a:pt x="3458" y="2823"/>
                  </a:moveTo>
                  <a:lnTo>
                    <a:pt x="3458" y="2823"/>
                  </a:lnTo>
                  <a:lnTo>
                    <a:pt x="3458" y="2823"/>
                  </a:lnTo>
                  <a:cubicBezTo>
                    <a:pt x="3458" y="2327"/>
                    <a:pt x="3298" y="1841"/>
                    <a:pt x="2995" y="1411"/>
                  </a:cubicBezTo>
                  <a:cubicBezTo>
                    <a:pt x="2691" y="982"/>
                    <a:pt x="2255" y="626"/>
                    <a:pt x="1729" y="378"/>
                  </a:cubicBezTo>
                  <a:cubicBezTo>
                    <a:pt x="1203" y="130"/>
                    <a:pt x="607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83320" y="36925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64280" y="389556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2040" y="472428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45280" y="4737240"/>
              <a:ext cx="235440" cy="228960"/>
            </a:xfrm>
            <a:custGeom>
              <a:avLst/>
              <a:gdLst/>
              <a:ahLst/>
              <a:rect l="0" t="0" r="r" b="b"/>
              <a:pathLst>
                <a:path w="654" h="636">
                  <a:moveTo>
                    <a:pt x="654" y="0"/>
                  </a:moveTo>
                  <a:lnTo>
                    <a:pt x="0" y="0"/>
                  </a:lnTo>
                  <a:lnTo>
                    <a:pt x="654" y="636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26040" y="4254480"/>
              <a:ext cx="155880" cy="190800"/>
            </a:xfrm>
            <a:custGeom>
              <a:avLst/>
              <a:gdLst/>
              <a:ahLst/>
              <a:rect l="0" t="0" r="r" b="b"/>
              <a:pathLst>
                <a:path w="433" h="530">
                  <a:moveTo>
                    <a:pt x="433" y="0"/>
                  </a:moveTo>
                  <a:lnTo>
                    <a:pt x="0" y="0"/>
                  </a:lnTo>
                  <a:lnTo>
                    <a:pt x="433" y="53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73800" y="4267080"/>
              <a:ext cx="155880" cy="190800"/>
            </a:xfrm>
            <a:custGeom>
              <a:avLst/>
              <a:gdLst/>
              <a:ahLst/>
              <a:rect l="0" t="0" r="r" b="b"/>
              <a:pathLst>
                <a:path w="433" h="530">
                  <a:moveTo>
                    <a:pt x="433" y="0"/>
                  </a:moveTo>
                  <a:lnTo>
                    <a:pt x="0" y="0"/>
                  </a:lnTo>
                  <a:lnTo>
                    <a:pt x="433" y="53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Van Camp</dc:creator>
  <dc:description/>
  <dc:language>en-US</dc:language>
  <cp:lastModifiedBy>David Van Camp</cp:lastModifiedBy>
  <cp:revision>0</cp:revision>
  <dc:subject/>
  <dc:title>Command Pattern Structure</dc:title>
</cp:coreProperties>
</file>