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9BC-3FBD-45BE-B753-B8B9D079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B76-F373-4DD4-AF52-2DB0DF98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D06-D6B7-47E0-8A53-7DF779AF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1D0-DCE7-4D7A-9629-904DE951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9C8-8603-479D-B1BD-D9D0258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799-2673-4AED-B26F-D5D2788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491-4549-4219-B953-92041B3B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B49-4B61-4279-BE92-1D425295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680-360B-40DA-805D-F385704A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8E7-B67F-4316-A94C-A772268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94A-0CE6-4BF1-9AE6-C2886D8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53A-08BB-4171-90B2-923C7E2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01B-D4D7-4CDF-8103-B4F5C8906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95280"/>
            <a:ext cx="533520" cy="6858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85800"/>
              <a:gd name="textAreaBottom" fmla="*/ 659880 h 685800"/>
            </a:gdLst>
            <a:ahLst/>
            <a:rect l="textAreaLeft" t="textAreaTop" r="textAreaRight" b="textAreaBottom"/>
            <a:pathLst>
              <a:path w="21600" h="27761">
                <a:moveTo>
                  <a:pt x="3600" y="0"/>
                </a:moveTo>
                <a:arcTo wR="3600" hR="3600" stAng="16200000" swAng="-5400000"/>
                <a:lnTo>
                  <a:pt x="0" y="24161"/>
                </a:lnTo>
                <a:arcTo wR="3600" hR="3600" stAng="10800000" swAng="-5400000"/>
                <a:lnTo>
                  <a:pt x="18000" y="277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71600"/>
            <a:ext cx="4143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1143000" cy="457200"/>
          </a:xfrm>
          <a:prstGeom prst="parallelogram">
            <a:avLst>
              <a:gd name="adj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895480"/>
            <a:ext cx="838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533520"/>
            <a:ext cx="838440" cy="129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33520"/>
            <a:ext cx="838080" cy="129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30481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3429000"/>
            <a:ext cx="381240" cy="7621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159">
                <a:moveTo>
                  <a:pt x="3600" y="0"/>
                </a:moveTo>
                <a:arcTo wR="3600" hR="3600" stAng="16200000" swAng="-5400000"/>
                <a:lnTo>
                  <a:pt x="0" y="39559"/>
                </a:lnTo>
                <a:arcTo wR="3600" hR="3600" stAng="10800000" swAng="-5400000"/>
                <a:lnTo>
                  <a:pt x="18000" y="431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3505320"/>
            <a:ext cx="152640" cy="6094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480"/>
              <a:gd name="textAreaBottom" fmla="*/ 602280 h 609480"/>
            </a:gdLst>
            <a:ahLst/>
            <a:rect l="textAreaLeft" t="textAreaTop" r="textAreaRight" b="textAreaBottom"/>
            <a:pathLst>
              <a:path w="21600" h="86095">
                <a:moveTo>
                  <a:pt x="3600" y="0"/>
                </a:moveTo>
                <a:arcTo wR="3600" hR="3600" stAng="16200000" swAng="-5400000"/>
                <a:lnTo>
                  <a:pt x="0" y="82495"/>
                </a:lnTo>
                <a:arcTo wR="3600" hR="3600" stAng="10800000" swAng="-5400000"/>
                <a:lnTo>
                  <a:pt x="18000" y="86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3505320"/>
            <a:ext cx="152640" cy="6094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480"/>
              <a:gd name="textAreaBottom" fmla="*/ 602280 h 609480"/>
            </a:gdLst>
            <a:ahLst/>
            <a:rect l="textAreaLeft" t="textAreaTop" r="textAreaRight" b="textAreaBottom"/>
            <a:pathLst>
              <a:path w="21600" h="86095">
                <a:moveTo>
                  <a:pt x="3600" y="0"/>
                </a:moveTo>
                <a:arcTo wR="3600" hR="3600" stAng="16200000" swAng="-5400000"/>
                <a:lnTo>
                  <a:pt x="0" y="82495"/>
                </a:lnTo>
                <a:arcTo wR="3600" hR="3600" stAng="10800000" swAng="-5400000"/>
                <a:lnTo>
                  <a:pt x="18000" y="86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4267080"/>
            <a:ext cx="152640" cy="609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840"/>
              <a:gd name="textAreaBottom" fmla="*/ 602640 h 609840"/>
            </a:gdLst>
            <a:ahLst/>
            <a:rect l="textAreaLeft" t="textAreaTop" r="textAreaRight" b="textAreaBottom"/>
            <a:pathLst>
              <a:path w="21600" h="86146">
                <a:moveTo>
                  <a:pt x="3600" y="0"/>
                </a:moveTo>
                <a:arcTo wR="3600" hR="3600" stAng="16200000" swAng="-5400000"/>
                <a:lnTo>
                  <a:pt x="0" y="82546"/>
                </a:lnTo>
                <a:arcTo wR="3600" hR="3600" stAng="10800000" swAng="-5400000"/>
                <a:lnTo>
                  <a:pt x="18000" y="8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4267080"/>
            <a:ext cx="152640" cy="609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840"/>
              <a:gd name="textAreaBottom" fmla="*/ 602640 h 609840"/>
            </a:gdLst>
            <a:ahLst/>
            <a:rect l="textAreaLeft" t="textAreaTop" r="textAreaRight" b="textAreaBottom"/>
            <a:pathLst>
              <a:path w="21600" h="86146">
                <a:moveTo>
                  <a:pt x="3600" y="0"/>
                </a:moveTo>
                <a:arcTo wR="3600" hR="3600" stAng="16200000" swAng="-5400000"/>
                <a:lnTo>
                  <a:pt x="0" y="82546"/>
                </a:lnTo>
                <a:arcTo wR="3600" hR="3600" stAng="10800000" swAng="-5400000"/>
                <a:lnTo>
                  <a:pt x="18000" y="8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5334120"/>
            <a:ext cx="1143000" cy="457200"/>
          </a:xfrm>
          <a:prstGeom prst="parallelogram">
            <a:avLst>
              <a:gd name="adj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800600"/>
            <a:ext cx="838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819520"/>
            <a:ext cx="76176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048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505320"/>
            <a:ext cx="990720" cy="30456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685800"/>
            <a:ext cx="76212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144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371600"/>
            <a:ext cx="990360" cy="30492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514600"/>
            <a:ext cx="76212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7432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200400"/>
            <a:ext cx="990720" cy="30492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358128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629400" y="32000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9640" y="34290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radio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105160" y="1905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200" y="2209680"/>
            <a:ext cx="246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 direct fiber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hronous data 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57240" y="1066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5920" y="655560"/>
            <a:ext cx="95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C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0080" y="3809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4920" y="411480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Are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752480" y="28951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7640" y="269712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004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9680" y="182880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 up 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09120" y="20570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960" y="22096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9080" y="8380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720" y="39625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boo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49831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boo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4440" y="35053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8120" y="12952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7400" y="3230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66800" y="87156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2520" y="274320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e 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876920"/>
            <a:ext cx="1295640" cy="1523880"/>
          </a:xfrm>
          <a:prstGeom prst="cube">
            <a:avLst>
              <a:gd name="adj" fmla="val 1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7913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57913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53341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53341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9440" y="506268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66880" y="3580920"/>
            <a:ext cx="15264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5720" y="399240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5334120"/>
            <a:ext cx="6477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3341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53341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581280"/>
            <a:ext cx="6477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7120" y="3611520"/>
            <a:ext cx="51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entralized  Addressing Sche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UID based, independently assigned and manag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114800"/>
            <a:ext cx="6477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7880" y="4114800"/>
            <a:ext cx="41734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Routing and Resolving Lay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 late as possible – on demand - binding of address to physical transport endpoin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d search for new binding and routing information on every single routing failu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724280"/>
            <a:ext cx="6477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4800600"/>
            <a:ext cx="4410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network transport abst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mmon driver interface to all of the heterogeneous transport supported by the P2P netwo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27432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9520" y="2787480"/>
            <a:ext cx="42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Objects (System or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ers, logical communication “socket like” endpoints known as pipes,  grouping of peer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availability services, et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051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90512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90512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90512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2071800"/>
            <a:ext cx="5427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y, Communications and Other Services (System or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rvices available to other peers, running on one or more peers concurrent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0960" y="5486400"/>
            <a:ext cx="30182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terogeneous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ifferent physical transport, software, and hardware platfor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10666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4640" y="1233360"/>
            <a:ext cx="4816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P Appl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ocused on application logic, with most of the P2P network handling provided by lower level subst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19Z</dcterms:created>
  <dc:creator>VC</dc:creator>
  <dc:description/>
  <dc:language>en-US</dc:language>
  <cp:lastModifiedBy>VC</cp:lastModifiedBy>
  <dcterms:modified xsi:type="dcterms:W3CDTF">2002-10-15T14:16:26Z</dcterms:modified>
  <cp:revision>23</cp:revision>
  <dc:subject/>
  <dc:title>PowerPoint Presentation</dc:title>
</cp:coreProperties>
</file>