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815-F47A-4E89-B7D3-89B189C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BC5-0792-41C3-8A4F-B39EAE9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A3F-DD26-40C0-82C1-C628D592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5EA-ADFD-4A18-9A4A-73B5831C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6EA5-3390-4D0F-8413-AB0A99FA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FE78C-8AA3-4D4A-8822-6CF10005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C7F97-32D4-46FD-A0FD-C5DFE1F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C3001-160B-44AA-9FAF-C7E552E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665F-27C1-486B-8ADD-B607B98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64456-49CD-4137-BC8E-0FF884C4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FC5A8-7912-46EA-B65B-0395F32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D97-BC1D-463C-984A-3E790C8D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B3730-F14B-45AD-AE96-5BAE9B4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91C93-A31B-4AAC-9864-477F1DB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B83E6-17CB-4F39-9075-F428BC1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33E8B-89AC-47C4-876A-31549E7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3A01B-C8E5-4623-9799-CF5F7510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61E-D937-4BC5-A3F5-0044BB7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079-F1B4-44F9-8826-F72CF89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AC6-BD4D-4299-9390-E950343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2CE-89F3-4CB1-88EA-38385A0A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3A1-F529-4314-BC1A-FE78ABC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376-ECBE-4683-8622-6FF3915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FD9-9CCB-4F2D-AA45-726F4F3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Introduction to J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y Ewout Prang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5826240"/>
            <a:ext cx="2133720" cy="88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7F1CD8E-7796-4497-AB0D-174E2A9FB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AE79-DA0D-472F-B193-07D4DDF1F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node.org/" TargetMode="External"/><Relationship Id="rId3" Type="http://schemas.openxmlformats.org/officeDocument/2006/relationships/hyperlink" Target="http://jnode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troduction to JNo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 Java New OS Design Eff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5024520"/>
            <a:ext cx="3759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: Extension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n extension point is a well known point in the system, where other plugins can “hook” extensions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 fin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hell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: Descriptor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00200"/>
            <a:ext cx="761976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!DOCTYPE plugin SYSTEM "jnode.dtd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plugin id="org.jnode.driver.net.3c90x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ame="JNode 3Com 90x driver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version=“0.1.4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vider-name="JNode.org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require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driver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driver.net.ethernet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net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require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run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library name="jnode.jar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export name="org.jnode.driver.net._3c90x.*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library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run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extension point="org.jnode.driver.mappers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mapper class="org.jnode.driver.net._3c90x._3c90xDeviceToDriverMapper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extension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plugin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s &amp;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device framework is modeled arou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, Bus, Driver,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vice discovery &amp; initialization is done v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 finders &amp; Device to Driver map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Software representation of Hardware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onnected to 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ontrolled by a d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rovides API’s to the rest of th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identified by a unique 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Software representation of a Hardwar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an be connected to other bu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an find devices connected to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ri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he controller of a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he implementor of API’s provides by the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reated by a Device to driver ma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ever called 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D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P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well know programming interface towards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argeted to a specific range of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generic (within the range of de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interface that extends DeviceA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 fi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sponsible for finding devices on a specific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tantiates Device in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gisters devices with the DeviceMana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implements DeviceFi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n extension of the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.jnode.driver.finders” extension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 to Driver mapp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sponsible for finding a suitable Driver for a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tantiates Driver in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implements DeviceToDriverMa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n extension of the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.jnode.driver.mappers” extension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atus (nov-200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Node is becoming a workable OS for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rogress is fast and exc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ep informed by our website or mailing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lobal 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irtu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ug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vices &amp;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atus &amp; Cont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urrently supported: (nov-200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e video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e network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CP/IP st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xtensible command sh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itial FAT file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bsite: 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jnode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mail: jnode-devel at lists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dmin: epr at users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Help is always 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reate a modern OS entirely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asy to install &amp; mai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itable for modern “simple” dev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sktop PC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bl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DA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pport for modern hard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irew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3): </a:t>
            </a:r>
            <a:r>
              <a:rPr b="1" lang="nl-NL" sz="44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 our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place Windows within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place Linux within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pport every device ever inv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Why do we do i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 prove that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cause we believe it is the best way for future OS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 have fun doing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lobal Archite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5029200"/>
            <a:ext cx="50292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343400"/>
            <a:ext cx="1676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ootstrap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4343400"/>
            <a:ext cx="167652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Java 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343400"/>
            <a:ext cx="1371600" cy="4572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Unsafe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657600"/>
            <a:ext cx="198108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esource m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198108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0" y="2362320"/>
            <a:ext cx="5029200" cy="1752480"/>
            <a:chOff x="2286000" y="2362320"/>
            <a:chExt cx="5029200" cy="1752480"/>
          </a:xfrm>
        </p:grpSpPr>
        <p:sp>
          <p:nvSpPr>
            <p:cNvPr id="105" name=""/>
            <p:cNvSpPr/>
            <p:nvPr/>
          </p:nvSpPr>
          <p:spPr>
            <a:xfrm>
              <a:off x="2286000" y="2743200"/>
              <a:ext cx="2819520" cy="137160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Tahoma"/>
                </a:rPr>
                <a:t>Standard packag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2362320"/>
              <a:ext cx="5029200" cy="3808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6000" y="1600200"/>
            <a:ext cx="5029200" cy="53352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267080"/>
            <a:ext cx="1295640" cy="1447920"/>
            <a:chOff x="152280" y="4267080"/>
            <a:chExt cx="1295640" cy="1447920"/>
          </a:xfrm>
        </p:grpSpPr>
        <p:grpSp>
          <p:nvGrpSpPr>
            <p:cNvPr id="109" name=""/>
            <p:cNvGrpSpPr/>
            <p:nvPr/>
          </p:nvGrpSpPr>
          <p:grpSpPr>
            <a:xfrm>
              <a:off x="304920" y="4648320"/>
              <a:ext cx="990360" cy="914400"/>
              <a:chOff x="304920" y="4648320"/>
              <a:chExt cx="990360" cy="91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04920" y="4648320"/>
                <a:ext cx="990360" cy="380880"/>
              </a:xfrm>
              <a:prstGeom prst="rect">
                <a:avLst/>
              </a:prstGeom>
              <a:solidFill>
                <a:srgbClr val="00c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Tahoma"/>
                  </a:rPr>
                  <a:t>Jav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5181840"/>
                <a:ext cx="990360" cy="380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Tahoma"/>
                  </a:rPr>
                  <a:t>Nativ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52280" y="4267080"/>
              <a:ext cx="1295640" cy="1447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Tahoma"/>
                </a:rPr>
                <a:t>Lege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JNode Java Virtual Mach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ritten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90% platform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preter &amp; Native code compiler (JI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mory management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mpilation of “hot” method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verything is a plugi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ugins prov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lasses &amp;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nsion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nsion connected to extension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 plugin is described by a descrip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0:06:46Z</dcterms:created>
  <dc:creator>Ewout Prangsma</dc:creator>
  <dc:description/>
  <dc:language>en-US</dc:language>
  <cp:lastModifiedBy>Ewout Prangsma</cp:lastModifiedBy>
  <dcterms:modified xsi:type="dcterms:W3CDTF">2003-11-02T11:27:43Z</dcterms:modified>
  <cp:revision>17</cp:revision>
  <dc:subject/>
  <dc:title>JNode </dc:title>
</cp:coreProperties>
</file>